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B594-6C95-440A-9D04-9838977C0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A0D7-5308-46D4-9B4E-B08BCECC58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3936-B8C7-49EA-8BB9-E145702018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2936-3DF8-4EFD-B2FA-3F45808078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BC94-7C21-4B00-A686-5967762F3EC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7B7E-DF29-4624-BBA2-168DC4FBA3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6972-A888-4219-B460-4A33884C78E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A123-A775-4487-8EA3-435646C1E6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F3EF-4532-4B18-B1A9-B8AA433A1B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DF48-4D44-47F4-B4B8-D496CF69A9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5868E-D598-4FA6-9315-A63AD89FE1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5AE96-858D-4D68-82F1-13013FD59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DAE6-B42B-45E1-9457-E5101D25A3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C45B60-4E4E-424A-BB73-FC1E10AF47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DBE5B-3266-4141-B36F-E638691B9E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96B91B-7E29-48F6-BF34-16DEA98BD84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1D4A3-F9AF-499B-B3BC-198E274611B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963D1-F23B-4E80-90E1-6F7F812D8B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CFE87-D85E-44FD-9E35-66C401AD66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64C1C-5E8A-463E-A443-B9E269DF5D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8EC9F-3CB6-476B-AE07-0DD9519BA6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FF263-45FF-46B8-AC48-1F06FBB047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21FF0-6C1E-4C06-8AD1-4BB4B62F9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7210-A0D1-4FC3-9685-97D4138340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FC857-C884-45C5-AFA5-9B93AF1699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F3B56-CB65-4A2D-9736-6A16F38C13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5EDE4-F0E0-44A0-9123-4C9A5A166B4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97353-B5F4-4FB2-99B7-33849BC00C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EA058-84B4-4222-A1EE-0C61510A02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AB240-82DB-4341-8AA3-900CBD506F0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04778-195D-4B84-B6AF-EBBA18E7F6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2AEDE-E33C-487C-A4A8-72D4F4153FC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89367-5CAE-42DA-A028-1DCD90F9AF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40DCD-2039-4B6D-A723-843D66E28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632-F9DE-4A81-9A64-59E5292BD8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B5042-4F27-4217-8F63-41E93B23159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6B2E1-EAB7-4AE2-9F41-8C418F3649B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C38EE-8722-486D-8601-D55994E532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B09F-6994-4D45-A136-BD2B8752E8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B351-A5F0-4699-B767-10A52C31178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656B-B62F-4C99-9D2A-9D188A36600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F428-BE4B-4B59-B321-8C4F2FDA88C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3B0F-26E6-4B3A-90FC-555A4B834CF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20FC7-71B8-4B6B-AEF9-00BD562710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9DFA-ED27-4DEA-8E63-644467EB3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DFA-9D14-4D77-93E4-7964BF1877B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6AE7-17E7-435D-9331-DF871EDD15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8034-8748-411B-A1D1-FE1808C3A8D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CC56-2F55-4065-BF8F-FBA165D200F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01832-C78F-4058-AF09-AFD1733FF9A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3A54-A878-4AE5-B3E7-3D29F8A518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222-2D36-4C33-90A8-6617CF5DF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1D2-B4C6-4B9A-A65F-C59A4D5896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75A-D939-4961-B622-61EB1DE34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D6B-BAF8-4CDA-B7EF-52C92EE8C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F9F-4DEF-4E45-B249-CE6E779D4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F4AE-EDCC-4273-B542-2E79E942B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785-2784-496F-860A-DFF877806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E4E-440E-49A5-882C-FC9A610BC3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084-7CC8-41BF-A0B0-C2404A12AE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FF3-E641-4C32-9560-D44E01ADF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721-D421-4E98-B40F-9A30F29B98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1555-4232-499F-BC51-E62F41B13B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82BD-FE60-4E67-BF88-708070F55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8211D-13B2-4432-936B-D894ADE38A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4A5D-24F2-4075-BEB3-C6C69CA6C5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FDCFF-769E-4E2C-BB8F-78A453EB7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D197-B282-4629-ABF2-E7DDD85732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152EA-372F-424A-BE37-339F628BC5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F196-F949-4A12-AEA4-7E174D5A79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FC2E-74BA-4508-BE06-5982647B41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7277-56C8-4406-ADB1-37E2F8F088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E1B21-E3AA-49AF-B754-FA50E65CE4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8D83-8D63-44E3-8F07-69F4EA9818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7916-06BB-4270-9212-96E74FC5D9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CBA20-804B-4C3E-8540-791D8512B3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D099C-5077-4797-A38E-347ECA71AD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1C393-B966-409C-A729-5F33B2495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3F6F-C8B5-40B1-8FAE-D518CD74D9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E8833-B365-4848-B9DF-DB888F55AC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E3B0D-9056-452E-9F33-4633918484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97072-2C97-4BC1-AE1B-3D377E28F1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C5123-8A1E-4D80-8F7A-25E4CB3B5B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A4617C-5E86-4525-8496-56FF61721C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09EE3-8AF8-4D6E-B8C7-0A7FE4F367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D0A45-08F4-4DFF-8E8A-F3085FE264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A33AC-2FFB-4579-B333-7AC4AA11E1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FB416-63E2-45C2-8134-ED83EDF3F7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1CC8-CE55-4FC9-BBCE-D2597BA1F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938D-7362-4A3E-A778-49A4EA200F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717F-E665-4295-AC8D-677B448B69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3D30-EF8D-40D9-996F-DFE3697956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3FB1-E9A6-4CD8-AF32-1398EC9431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55FB-874F-4FD3-8D2C-F5F306EC14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9843-542A-4F12-ACEC-08DB6AB80B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A5E2-B2CC-4E67-8E1E-8CD46FC0D9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44E6-6DBB-4E8B-B726-6CA83A3BE7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35C7-FFE7-4F02-926A-665DC94A2C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D22F-E9F4-4E0E-B6C7-4A8108B361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752EF-D8EF-43D2-B306-E3C301EDD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8FBD-BAC5-4F6E-B503-5C1EE28611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1093-2A3B-4052-9FD3-F52ED9D2E4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053A-B69C-4EED-830E-8310F630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99DC-D38E-4A9E-B253-E3AC128F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86CA-CB39-48C7-8E2E-A086F23C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641E-D097-4B61-BD41-3F123A3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EE34-3946-4F92-9EDC-F6E162D5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95AD-F9CD-45A7-8211-98BAA97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54BF-FB80-4DAD-A886-C9A5EB7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885D-0342-412A-8B90-0CA3893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B003-F690-47D2-94A5-91EA2DD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1E39-11AF-44CA-8816-3007D6CB9C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EE25-04C5-42A4-8AE0-D00B818C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864A-3ABD-4AF0-AFFC-B0AFB9D0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7C9E3-9EEA-4531-9BDD-6A88E4DD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CCB8C-799D-4C74-9E1D-C6C60FA3BE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5515B3-ECFA-47AE-8A91-6983D9AD64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DDFD04-80A9-4411-A96A-272F858174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49AAB-B301-42D4-8CD8-6911181E1B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23A6C-D77F-4362-AC84-8B44682681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9195B-9C72-4AB1-89C1-5663858C99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D2A598-B5CE-4F68-A973-291F1E324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7BBD-BE69-4098-B510-C0AFC8FF42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879CC-CDFD-43B1-B691-93397FA4030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23849-C243-49F4-9190-3A99CB026F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2DDA1-6BE7-40ED-A567-77A725AEE2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DD6EC-9159-4FAD-AB8C-264D88E9FE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76275-701B-43FD-9316-D1E91662BC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F8556-23FF-4D38-9EC0-8DA2812CD5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3BB5B-6DAB-461D-9BB8-81382AE7F6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CF372-336B-45D3-9C52-ED82E6BAFE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DC579-01C6-43DB-8523-821BADC62A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272BD-3308-49EC-A4DC-BE499B8DF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4FA1-2961-4DED-89AA-AA1154EFF9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58CF5-13E5-47F0-B353-2882E13B43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1ED7E-AC44-4AA4-AD9B-5AA2092600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F0BA9-C2CB-4AE8-BF98-3B3E9C72A4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1415F-F369-42BB-A3B2-8BF85360D0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6FACE-86E4-4AB8-9102-BA2EB5DBC2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D7268-6EB5-4A70-AE03-EE959B0323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E00B2-2DB9-4FB5-828A-429A530222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EE1B-E9F0-4AE2-8641-2FB6F5D654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35C5-17A1-4DBF-ABFB-5620E27628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3EA3-862E-4B30-9F7A-4D5681EA1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3A7D-C994-4014-9C8B-D733DAF96215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ldNum" idx="16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DAB0-7703-4484-97C7-1842F7CF165E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ldNum" idx="1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07BB-CFCC-4970-9D98-0B509067C9AF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8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B37-D3FC-46D7-AC98-B4B25BDFB3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9AD-865D-483B-A237-0AE6D5EEE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AVAIR-Seal.png"/>
          <p:cNvPicPr/>
          <p:nvPr/>
        </p:nvPicPr>
        <p:blipFill>
          <a:blip r:embed="rId4"/>
          <a:stretch/>
        </p:blipFill>
        <p:spPr>
          <a:xfrm>
            <a:off x="0" y="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3495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582-6B84-4BA5-970F-2D494F165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ftr" idx="6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A47-872F-43CB-B3B2-AAEDEEE698F1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8"/>
          </p:nvPr>
        </p:nvSpPr>
        <p:spPr>
          <a:xfrm>
            <a:off x="-360" y="6608880"/>
            <a:ext cx="289548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C22-4542-498B-8BC6-6B5284666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B7E-1450-4834-837B-C02BDA2FD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263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518080" y="4978440"/>
            <a:ext cx="22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c295b"/>
                </a:solidFill>
                <a:latin typeface="Arial Narrow"/>
              </a:rPr>
              <a:t>Presented to: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Num" idx="13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A11F-2B8B-4201-BC0A-3123E316329A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ldNum" idx="14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761A-AB1A-4B61-9760-77443788C077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ldNum" idx="15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9E31-4364-4659-90AD-BEB33326F284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5517720" y="5151240"/>
            <a:ext cx="29163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2240"/>
                </a:solidFill>
                <a:latin typeface="Arial Narrow"/>
              </a:rPr>
              <a:t>Small Business Round Table</a:t>
            </a:r>
            <a:endParaRPr b="0" lang="en-US" sz="14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324200" y="4734000"/>
            <a:ext cx="12510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c2240"/>
                </a:solidFill>
                <a:latin typeface="Arial Narrow"/>
              </a:rPr>
              <a:t>13 August 2015</a:t>
            </a:r>
            <a:endParaRPr b="0" lang="en-US" sz="11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517720" y="5354640"/>
            <a:ext cx="294660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20" name="Slide Number Placeholder 7"/>
          <p:cNvSpPr/>
          <p:nvPr/>
        </p:nvSpPr>
        <p:spPr>
          <a:xfrm>
            <a:off x="350820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CBE-AC26-4D62-AF65-DCCA06E13A1A}" type="slidenum">
              <a:rPr b="1" lang="en-US" sz="1400" spc="-1" strike="noStrike">
                <a:solidFill>
                  <a:srgbClr val="ccd2e2"/>
                </a:solidFill>
                <a:latin typeface="Arial"/>
              </a:rPr>
              <a:t>1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title"/>
          </p:nvPr>
        </p:nvSpPr>
        <p:spPr>
          <a:xfrm>
            <a:off x="360360" y="357336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act Typ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5579280" y="5386320"/>
            <a:ext cx="27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3b57"/>
                </a:solidFill>
                <a:latin typeface="Arial"/>
              </a:rPr>
              <a:t>By Dawn Chart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3b57"/>
                </a:solidFill>
                <a:latin typeface="Arial"/>
              </a:rPr>
              <a:t>Deputy Director,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3b57"/>
                </a:solidFill>
                <a:latin typeface="Arial"/>
              </a:rPr>
              <a:t>Office of Small Business Program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3b57"/>
                </a:solidFill>
                <a:latin typeface="Arial"/>
              </a:rPr>
              <a:t>NAWCAD Lakehurs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7320" y="4340160"/>
            <a:ext cx="271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1c295b"/>
                </a:solidFill>
                <a:latin typeface="Arial"/>
                <a:ea typeface="Arial"/>
              </a:rPr>
              <a:t>PAO Approved SPR2015-691-Contract Typ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ic Agre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ritten Instrument of Understanding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ontains contract clauses applying to future contracts during its term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ontemplates separate future contracts that will incorporate by reference the required and applicable clauses agreed upon in the basic agreement.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A BASIC AGREEMENT IS NOT A CONTRACT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The basic agreement DOES NOT INCLUDE ANY FUNDING (funding is provided in the separate orders placed against the basic agreement)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There is NO GUARANTEE that any orders will be placed against the basic agreement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These can include Basic Ordering Agreements and Blanket Purchasing Agreement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Solici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equest for Quotations (RFQs) –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enerally for SAP actions (FAR Part 13), GSA or BPA;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Uses simplified eval techniques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ypically takes 30 to 60 day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May or may not require synopsi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Solici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Invitation of Bid (IFB) Formal advertising IAW Far Part 14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Very structured solicitation format which can only be used with very well defined requirements (e.g., Drawings)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rimarily used by NAVFAC in construction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Low bidder wins unless and exception to spec or solicitation is taken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Solici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equest for Proposal (RFP) Negotiated Procurement IAW FAR Part 15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sed in more complex  procurements; assumes CO will need to negotiate or  discuss requirements/responses with Contractor prior to  award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type of solicitation used by NAVAIR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SP for competitive; cost/price proposal for non-competitive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tions of Contr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A – Contract cover page; provides contract number, name of contractor, contracting office issuing contract, contract date, PCO name, contract total amount, admin office, payment office, ship to address, payment terms and delv’y term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B – Contract Pricing Schedule; provides CLINS w/ item descriptions, qtys, Unit Prices, options, total amount obligated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C – Statement of Work (SOW) or Statement of Objectives (SOO) for performance based SOW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tions of Contr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tion D – Provides packaging, marking and shipping instruction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tion E – Provides Inspection and Acceptance instruction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tion F – Provides delivery or performance schedule for all CLINS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tion G – Provides contract administration information &amp; dat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tions of Contr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H – Special contract provisions, clauses,  Ts &amp; Cs; full text clause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I – Standard Contract Clauses; general FAR  clauses incorporated by reference number – not full text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J – List of Attachments; CDRLS, drawings, DD 254, reference documents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K – Contractor  Representations and Certifications; contractor provided information detailing size, type of business, etc.  Information used in FPDS data base.  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tions of Solici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L – Instructions to Offerors, tells contractors how to prepare proposal in response to solicitation; no. vols., no. copies, format, topics and order of presentation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ection M – Evaluation Factors and Award Provides description of factors considered in award, their relative importance and award criteria – best value or pass/fail, low offeror.  For cost type contracts, discusses cost realism evaluation process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2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7D3-CE07-4927-A0DB-7C6103A0CC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e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25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MS PGothic"/>
              </a:rPr>
              <a:t>Establish general concepts promot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Compet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Public access to the process – FebBizO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Level playing field for all parties (Conflict of Interes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Insultates procurements from outside influence (Non-disclosure certific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Promotes Gov’t. efficiency – fair and reasonable pr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MS PGothic"/>
              </a:rPr>
              <a:t>Promotes socio-economic goals in Gov’t. procur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rdware Procureme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Hardware requirements require: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OW with CDRLS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Quantities including options and delivery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Independent Government Cost Estimate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arket research with acquisition history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List for spares                                          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Logistics support requirements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Tech data and intellectual property req’ts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IT approval if necessary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FMS requirements if necessary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ource Selection Plan for new competitive buy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 Requir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equirements for Services include: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OW/SOO with CDRLs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ndependent Government Cost Estimat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arket research with acquisition history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mpetency Approval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approval if necessary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ource Selection Plan for new effort; use of  SEAPORT is no longer mandatory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Solici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bined Synopsis/Solicitation (FAR 13.5)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ood up to  $5M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ombines the notice of solicitation in FedBizOps with simplified solicitation procedures, T&amp;Cs and eval and award criteri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Contra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irm Fixed Price –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sed  in solicitations and contracts in which the SOW is well defined(COTS, Drawings, production, follow-on buys) with reasonable risk for the contractor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reezes price for Gov’t.; if price to perform increases contractor is responsible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f contractor can perform more efficiently savings become profit for contractor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eferred type of contract for Government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Contra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st Plus Fixed Fee –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Used in Sols. and  contracts in which SOW cannot be well defined (R&amp;D, development, services). Covers all estimated and actual costs associated with performance of contract including labor, mat’ls, burdens plus a fixed fee.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Actual performance costs may vary from what was originally negotiated.  If costs exceed original total (cost overrun) contractor may not continue w/out authorization of PCO.  New total must be established and Gov’t pays increased costs.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If contractor does not properly estimate &amp; bill, at contract close out additional funding in that year money must be provided by PM to  close out the contract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Less preferred  type of contract for Government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Contra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Time and Materials (T&amp;M) – </a:t>
            </a:r>
            <a:endParaRPr b="0" lang="en-US" sz="28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sed when actual performance cannot be well defined (development or  RoR)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o incentive for contractor to perform efficiently; the more hours they work the more they earn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egotiated fixed labor hour rate for time; includes burdens and profit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aterial cost at actuals with “handling charge” added to actual cost of material; no fee on mat’l.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east preferred type of contract for Government  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IQs and O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ndefinte Delivery/Indefinte Quantity –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hen requirements can’t reasonably be predicted over the next few years but an est max total qty can be predicted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an be FFP, CPFF or T&amp;M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hould be used when less sure about funding stream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Options – When requirements can be relatively predicted on a year to year basis with total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an be FFP, CPFF or T&amp;M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hould be used when more secure with funding stream availability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21:10:26Z</dcterms:created>
  <dc:creator>Noel Hepp</dc:creator>
  <dc:description>File:
Presenter:
Subject:</dc:description>
  <cp:keywords>NAVAIR COMMAND OVERVIEW</cp:keywords>
  <dc:language>en-US</dc:language>
  <cp:lastModifiedBy>cmoyer</cp:lastModifiedBy>
  <cp:lastPrinted>2014-11-07T14:19:56Z</cp:lastPrinted>
  <dcterms:modified xsi:type="dcterms:W3CDTF">2015-08-25T12:00:49Z</dcterms:modified>
  <cp:revision>297</cp:revision>
  <dc:subject>NAVAL AIR SYSTEMS COMMAND OVERVIEW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rief Date">
    <vt:lpwstr>Nov 2010</vt:lpwstr>
  </property>
  <property fmtid="{D5CDD505-2E9C-101B-9397-08002B2CF9AE}" pid="3" name="Purpose">
    <vt:lpwstr>Message Alignment</vt:lpwstr>
  </property>
</Properties>
</file>