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934560" y="2419200"/>
            <a:ext cx="5140440" cy="61819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ldImg"/>
          </p:nvPr>
        </p:nvSpPr>
        <p:spPr>
          <a:xfrm>
            <a:off x="2126880" y="189000"/>
            <a:ext cx="2760840" cy="207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481800" y="8940960"/>
            <a:ext cx="460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BB3437-73E8-4310-BFDE-2623EA4A5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CF45-CD1F-4E4B-A45B-9B779F7F34AD}" type="slidenum"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32040" y="4417920"/>
            <a:ext cx="514656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lvl="1" marL="569880"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D720-BFD1-464A-93C3-E3A1472C7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DDE8-15A5-4998-A70A-968C472A96C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54FEA-E0B8-4B41-AFE5-23C546BF859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E7A26-C585-460C-917B-A99F0C91BCB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9967A-79BF-4232-81EF-05A75D714DE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1B050-399C-4886-8510-3D7E957C82C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D4FF7-FBC8-4D3D-8A18-177BD0FB6B9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DEF83-1717-4968-A3DA-3EBCCBF2E1A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C3BA2-A88B-42CC-9E81-C369C4D0523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7D554-4B06-4BB5-A5B2-C5B73C16E4B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FCA48-25F6-442B-9FA3-DC00B27B3C4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1F92A2-C7D3-4E1E-A418-5E5F14C6E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8DC2-6767-4B52-B014-FDF58934C5F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59A899-D6DE-4B35-836A-71890B831AC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D9F96E-E9EA-48DD-8D90-723B8F872A9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88DFC3-83D7-420A-B7C0-F1401BA4621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544E61-DF0F-4BC2-9342-3B7A6EA75F5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16B8BA-E54B-47B6-8C3B-C5CEE2FDC67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C0DCA7-90CC-46D8-9E24-E34640CF677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A893FB-450A-4F7F-B946-12A04F25551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F5E3D8-B74F-47DB-A71C-A84FCC83D82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0046FE-92D0-4EC6-B2B7-A734DF6C5EB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CAF640-CFCD-419D-AC85-908AF6EAC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1C9C4-CFC6-451A-B02D-8B70F99C011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FF055C-72C2-4600-A9F2-C394C0EBA78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F4B652-B9C7-4A25-9E4F-DB3867C33D1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FBC64-16F9-45E1-8EC1-CBBE4659D98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8EDA9-E3B5-4FD0-B086-14AA30094B8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CA72B7-1519-4137-91C4-3DB992E4926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7F80EE-DDCE-4726-A3BE-FD31ECAB436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00FBC9-D40E-43DF-933A-B4F6B17CDA0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ED8F18-182F-4BD6-8847-89B43A071BA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2D7A2-0F33-44BC-AAA9-C56F16AAA8C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A9979-D533-4243-9C3C-1A639C913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848-22B5-4365-BA91-7C6A9790774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6B6D4-EFE0-4F70-8292-597BFFC70D1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7B8A4-A8DF-4B54-9592-B54F0BB16E0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627E5-258D-4EB9-B432-AE5458CE310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E0333-6EE9-46C9-ADA1-299FF5D3521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0440C-4C05-400A-8D8D-080068DDE00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4CEE0-4963-472E-855E-8751C0417DA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A7286-20FC-477E-B4E4-BD2EE59B8D2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459D4-DAB7-4E83-ADB5-7E917E2C3AE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8D297-25CF-4DB9-BD0E-53ED6D0720E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A23FE-2164-49CC-A90D-2F5E9DE58F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99B-0F05-473B-8C3F-74C97FF65CF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783C9-D458-40B1-9D35-BE1288E5117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EAFEE-E759-43EC-831C-17C0E4ADE9E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FE756-3F96-47B9-8F41-BA2767DBA96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7F2B3-12C2-4067-95A5-A5EF5B296C5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E8564-54F0-4161-95B2-57AA77E6F6D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A4B45D-A49E-4A9F-92F2-E7CD9120275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4082AB-2113-4301-A155-1AD43112380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DA3EBF-15A3-4C42-BBB8-4F3BA6642C7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0EA7C3-DBE1-41EB-A350-98A9FCD5760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11F40D-3A3A-49C9-8B19-EF65A58A21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205-36A6-4AA2-A7BC-4420620BA8B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B84621-0A9B-43EF-9CA3-175C05CD230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025FB4-5203-495D-A5DE-B67EC7CFB8A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073A4C-5D41-455E-A748-F94638B26BF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02D436-BF8F-4E21-9A5C-D56D1A95528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9BCF1A-0A57-491A-9DBF-225BCFF2A25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DB2013-6D9B-4B65-9A7E-5C611E0BF3D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28CCF1-6651-4F86-AEC6-6D96830703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D13-262E-4606-86D0-ED53FD1AFD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C81-F51F-4F65-91A2-36D5AD67B7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7CB-683A-442B-9827-8E4AD34D6D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CAE-C88A-4ADF-92AF-D295ED3385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3E029-B1D1-4C8D-A8A2-23B872C49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96E-982E-4100-8E9B-12E78C1614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D0A-2993-42C1-9D03-4EE11F3C39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9FA3-72A9-4947-9AA1-4F1E3DBA2E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938B-B1E9-49AD-8C45-A10B57CB72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163-95B8-4467-80BE-227EA186A5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41916-B115-4DCF-B1DA-859AE10E73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80B57-049C-46F5-950E-0818B88E4F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4120F-6B82-40F2-9AE6-C89FF6554A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BB71B-D1D6-4AC6-BAAB-BEE5C2F065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F8644-5F4E-418E-995F-986A52FE0B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F05D-C644-4617-896D-DB8107001E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68F8C-C751-4802-8270-54892120B7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D9F23-6062-4442-B99D-40FA3B13E6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964EB-3760-448D-9AF4-F3DD47CCE9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6B9E0-E20D-435B-86CA-DB221170D1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C8DE0-B64D-4EC7-B908-CC27864A63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75735-A482-441D-AB40-30CA039DE9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75C43-C87C-40EB-A029-03AA0D8E39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AD691A-F2C4-4891-89C8-CBABB25679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E23C96-58EB-4E61-AB89-C8345C67BE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811441-B96C-4A91-B6AB-32939233D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5CCE-F99F-427C-B82B-A083E08C85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350419-6825-4DB7-B3B5-BAE0133AD7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48D830-82A7-402F-95BC-F14D4020FC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64C3A3-8EA3-4F90-8EC8-BFC95A8D90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4257F5-6420-43AA-B70C-3B15A50741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F56BE8-0C9C-449C-8AD3-7E666B90D0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DD69B-9C66-4D5D-9022-1E8D428722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413536-4E88-4376-B4B6-F426B642C4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0FC229-124F-44D1-A04A-B200E29182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8FD7C-544A-4785-85D1-AC7BEBFB12A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4BFE5-64AB-4461-A4EA-160B88FD3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D09D-58CF-42F6-A62B-15C854C1C3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CE6B7-6483-4C66-8B30-0E7700C205D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9D29E-6572-4E69-B5F3-2B15A0C081B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330BF-FA51-4872-A96F-FCF14B134BC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156AA-111A-42F1-A78B-7E3B23175B4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C3EB7-DECC-4ED3-B2E4-D9D028142E4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94AA7-42C2-47BF-86B1-CE9ACBE1846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2DA8-A394-4CD8-90D1-7FD1D6DDC8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21EC-1D40-464E-8A57-9156F0032F0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063A-6125-461C-8CE3-AFCCB8F6B87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45B30-2271-45F3-BF31-A55A15975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3B43-8F78-4567-8B1B-423774CCEEB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4CA0B-C404-4816-B952-BB3F9A9B80D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02D18-325B-401E-ACA2-1032DA42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5A01E-D3C6-4571-A441-F65E9491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18487-6B57-4DB2-A81F-B9C1389A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BD4B4-5458-44BF-8A72-12E10A7A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F97EB-9F80-47C4-A65E-64818D5C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2DF66-66DA-4790-BBBB-ACF27236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4F8D2-FE6A-45FE-B47E-C48DB26C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1D798-8A61-44D8-B59E-A8575F1B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29E8F-25EE-49E8-A1FE-652F9F46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DD9A-A026-40DD-8D78-2A361C8E6DA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E9BFD-74AA-41FF-8828-5AF98FF8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8A396-F6BB-4DC3-A365-C26553A6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15DBE-66FE-41C8-A614-AA049696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18E8A5-CC51-4F0A-A09A-69FDEC4D8B2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FE1D14-7C20-41E2-8A76-85DCF806F79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2B42C1-AB52-4AD3-9A7F-470D0601030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7BC428-4B9F-404E-8E7D-D55B266216A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B5D766-7C6A-43B3-91EF-FC99335654D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B40214-E7BA-4C97-BAB3-F19BCB45002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08E8F9-FDC2-4AA5-839E-870E512BD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2362-0EE9-4B12-9B7E-4BCE6B8B6BC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ECB71B-56AE-4AC7-AE53-26206232D29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8E9DE9-B7F3-43C7-9CCA-0B38DB5D9D5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F05242-3159-4C67-ADDC-B20554688B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D5E14A-B848-4B52-AD04-536D1DA30A5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F64A44-60E6-4CEA-A4F9-077767A7764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B6746-F54E-441B-BF0C-5A331026131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1C543-22A4-4653-A647-A9C0DE5CAAA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F699C-C97A-48DB-BEE8-717387C9ED5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CF712-FE5F-4903-99FB-3D0751C3B18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44522-A009-4947-8A71-718A00CB6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4ED5-8DE6-4B60-A36E-61A83877B30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474DF0-3617-42CF-8E04-C0A8AB4268F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BA6B6-A132-4DBF-887A-D63C4D183BC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80BE8-DDBD-43C5-88F3-C93C150EB6F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EA616-3DD4-4106-96FA-BBB26F43948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70560"/>
            <a:ext cx="822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B9A5F-F73F-4968-B1EE-E701FB0608F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98532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70560"/>
            <a:ext cx="40158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99ABFA-A251-4574-9428-924B5577F69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98532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70560"/>
            <a:ext cx="2649600" cy="245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61D7B-E72D-4B5F-A131-0B6D7320F49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FA760-384C-4E1C-B886-49D97AA5237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54F23-9AE3-44B4-84D4-DE8CC608EA1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4D004-D696-4C70-9FBB-B97E82E4A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Wave_v2"/>
          <p:cNvPicPr/>
          <p:nvPr/>
        </p:nvPicPr>
        <p:blipFill>
          <a:blip r:embed="rId3"/>
          <a:stretch/>
        </p:blipFill>
        <p:spPr>
          <a:xfrm>
            <a:off x="0" y="354492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34704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4238640"/>
            <a:ext cx="9144000" cy="14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3507840" y="6594480"/>
            <a:ext cx="21337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d2e2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C1BC-BA07-435A-A604-BD42FEC84683}" type="slidenum">
              <a:rPr b="0" lang="en-US" sz="1400" spc="-1" strike="noStrike">
                <a:solidFill>
                  <a:srgbClr val="ccd2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0440" y="3540240"/>
            <a:ext cx="822960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224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10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NAVAIR-Sealw.png"/>
          <p:cNvPicPr/>
          <p:nvPr/>
        </p:nvPicPr>
        <p:blipFill>
          <a:blip r:embed="rId7"/>
          <a:stretch/>
        </p:blipFill>
        <p:spPr>
          <a:xfrm>
            <a:off x="3071880" y="214200"/>
            <a:ext cx="2981160" cy="2982960"/>
          </a:xfrm>
          <a:prstGeom prst="rect">
            <a:avLst/>
          </a:prstGeom>
          <a:ln w="0">
            <a:noFill/>
          </a:ln>
        </p:spPr>
      </p:pic>
      <p:sp>
        <p:nvSpPr>
          <p:cNvPr id="7" name="Line 10"/>
          <p:cNvSpPr/>
          <p:nvPr/>
        </p:nvSpPr>
        <p:spPr>
          <a:xfrm>
            <a:off x="5477040" y="4964040"/>
            <a:ext cx="3017520" cy="0"/>
          </a:xfrm>
          <a:prstGeom prst="line">
            <a:avLst/>
          </a:prstGeom>
          <a:ln w="12600">
            <a:solidFill>
              <a:srgbClr val="897f3a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5477040" y="6424560"/>
            <a:ext cx="3017520" cy="0"/>
          </a:xfrm>
          <a:prstGeom prst="line">
            <a:avLst/>
          </a:prstGeom>
          <a:ln w="12600">
            <a:solidFill>
              <a:srgbClr val="897f3a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Wave_v2"/>
          <p:cNvPicPr/>
          <p:nvPr/>
        </p:nvPicPr>
        <p:blipFill>
          <a:blip r:embed="rId3"/>
          <a:stretch/>
        </p:blipFill>
        <p:spPr>
          <a:xfrm>
            <a:off x="0" y="2454120"/>
            <a:ext cx="9144000" cy="771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23922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31608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NAVAIR-Seal.png"/>
          <p:cNvPicPr/>
          <p:nvPr/>
        </p:nvPicPr>
        <p:blipFill>
          <a:blip r:embed="rId7"/>
          <a:stretch/>
        </p:blipFill>
        <p:spPr>
          <a:xfrm>
            <a:off x="0" y="1817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sldNum" idx="16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9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1F7E-89A1-4903-9082-0C32489ED8F9}" type="slidenum">
              <a:rPr b="0" lang="en-US" sz="1200" spc="-1" strike="noStrike">
                <a:solidFill>
                  <a:srgbClr val="9ca9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Wave_v2"/>
          <p:cNvPicPr/>
          <p:nvPr/>
        </p:nvPicPr>
        <p:blipFill>
          <a:blip r:embed="rId3"/>
          <a:stretch/>
        </p:blipFill>
        <p:spPr>
          <a:xfrm>
            <a:off x="0" y="2454120"/>
            <a:ext cx="9144000" cy="7718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23922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31608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NAVAIR-Seal.png"/>
          <p:cNvPicPr/>
          <p:nvPr/>
        </p:nvPicPr>
        <p:blipFill>
          <a:blip r:embed="rId7"/>
          <a:stretch/>
        </p:blipFill>
        <p:spPr>
          <a:xfrm>
            <a:off x="0" y="1817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sldNum" idx="17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9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4C39-B07C-4491-BD42-7D6FB2D9915D}" type="slidenum">
              <a:rPr b="0" lang="en-US" sz="1200" spc="-1" strike="noStrike">
                <a:solidFill>
                  <a:srgbClr val="9ca9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Wave_Bottom_v2"/>
          <p:cNvPicPr/>
          <p:nvPr/>
        </p:nvPicPr>
        <p:blipFill>
          <a:blip r:embed="rId3"/>
          <a:stretch/>
        </p:blipFill>
        <p:spPr>
          <a:xfrm>
            <a:off x="0" y="6591240"/>
            <a:ext cx="9144000" cy="2761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Wave_v2"/>
          <p:cNvPicPr/>
          <p:nvPr/>
        </p:nvPicPr>
        <p:blipFill>
          <a:blip r:embed="rId4"/>
          <a:stretch/>
        </p:blipFill>
        <p:spPr>
          <a:xfrm>
            <a:off x="0" y="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3" descr="Rope_from_illthin.png"/>
          <p:cNvPicPr/>
          <p:nvPr/>
        </p:nvPicPr>
        <p:blipFill>
          <a:blip r:embed="rId5"/>
          <a:stretch/>
        </p:blipFill>
        <p:spPr>
          <a:xfrm>
            <a:off x="0" y="6714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5" descr="Rope_from_illthin.png"/>
          <p:cNvPicPr/>
          <p:nvPr/>
        </p:nvPicPr>
        <p:blipFill>
          <a:blip r:embed="rId6"/>
          <a:stretch/>
        </p:blipFill>
        <p:spPr>
          <a:xfrm>
            <a:off x="0" y="6515280"/>
            <a:ext cx="9144000" cy="1425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" descr="NAVAIR_logo_White.png"/>
          <p:cNvPicPr/>
          <p:nvPr/>
        </p:nvPicPr>
        <p:blipFill>
          <a:blip r:embed="rId7"/>
          <a:stretch/>
        </p:blipFill>
        <p:spPr>
          <a:xfrm>
            <a:off x="7848720" y="6654960"/>
            <a:ext cx="1171440" cy="2030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1" descr="NAVAIR-Seal.png"/>
          <p:cNvPicPr/>
          <p:nvPr/>
        </p:nvPicPr>
        <p:blipFill>
          <a:blip r:embed="rId8"/>
          <a:stretch/>
        </p:blipFill>
        <p:spPr>
          <a:xfrm>
            <a:off x="0" y="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18"/>
          </p:nvPr>
        </p:nvSpPr>
        <p:spPr>
          <a:xfrm>
            <a:off x="3495240" y="6603840"/>
            <a:ext cx="21337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D136-D7F0-42D0-B2C1-B67F38B1C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Wave_Bottom_v2"/>
          <p:cNvPicPr/>
          <p:nvPr/>
        </p:nvPicPr>
        <p:blipFill>
          <a:blip r:embed="rId3"/>
          <a:stretch/>
        </p:blipFill>
        <p:spPr>
          <a:xfrm>
            <a:off x="0" y="6591240"/>
            <a:ext cx="9144000" cy="2761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Wave_v2"/>
          <p:cNvPicPr/>
          <p:nvPr/>
        </p:nvPicPr>
        <p:blipFill>
          <a:blip r:embed="rId4"/>
          <a:stretch/>
        </p:blipFill>
        <p:spPr>
          <a:xfrm>
            <a:off x="0" y="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Rope_from_illthin.png"/>
          <p:cNvPicPr/>
          <p:nvPr/>
        </p:nvPicPr>
        <p:blipFill>
          <a:blip r:embed="rId5"/>
          <a:stretch/>
        </p:blipFill>
        <p:spPr>
          <a:xfrm>
            <a:off x="0" y="6714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5" descr="Rope_from_illthin.png"/>
          <p:cNvPicPr/>
          <p:nvPr/>
        </p:nvPicPr>
        <p:blipFill>
          <a:blip r:embed="rId6"/>
          <a:stretch/>
        </p:blipFill>
        <p:spPr>
          <a:xfrm>
            <a:off x="0" y="6515280"/>
            <a:ext cx="9144000" cy="1425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NAVAIR_logo_White.png"/>
          <p:cNvPicPr/>
          <p:nvPr/>
        </p:nvPicPr>
        <p:blipFill>
          <a:blip r:embed="rId7"/>
          <a:stretch/>
        </p:blipFill>
        <p:spPr>
          <a:xfrm>
            <a:off x="7848720" y="6654960"/>
            <a:ext cx="1171440" cy="2030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1" descr="NAVAIR-Seal.png"/>
          <p:cNvPicPr/>
          <p:nvPr/>
        </p:nvPicPr>
        <p:blipFill>
          <a:blip r:embed="rId8"/>
          <a:stretch/>
        </p:blipFill>
        <p:spPr>
          <a:xfrm>
            <a:off x="0" y="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sldNum" idx="19"/>
          </p:nvPr>
        </p:nvSpPr>
        <p:spPr>
          <a:xfrm>
            <a:off x="3495240" y="6603840"/>
            <a:ext cx="21337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57B5-D80C-4D3F-9523-BA2F29DF13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7840" y="70920"/>
            <a:ext cx="82296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95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295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88380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-360" y="6624720"/>
            <a:ext cx="289548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4227-E678-4739-810E-E268E713A6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NAVAIR_Logo-Blue_depth_130"/>
          <p:cNvPicPr/>
          <p:nvPr/>
        </p:nvPicPr>
        <p:blipFill>
          <a:blip r:embed="rId3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NAVAIR-Seal.png"/>
          <p:cNvPicPr/>
          <p:nvPr/>
        </p:nvPicPr>
        <p:blipFill>
          <a:blip r:embed="rId4"/>
          <a:stretch/>
        </p:blipFill>
        <p:spPr>
          <a:xfrm>
            <a:off x="0" y="0"/>
            <a:ext cx="79524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7840" y="70920"/>
            <a:ext cx="82296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95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295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88380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1c295b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95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c295b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-360" y="6624720"/>
            <a:ext cx="289548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3495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25CA-786A-47C2-995D-1542594B8C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NAVAIR_Logo-Blue_depth_130"/>
          <p:cNvPicPr/>
          <p:nvPr/>
        </p:nvPicPr>
        <p:blipFill>
          <a:blip r:embed="rId3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Wave_v2"/>
          <p:cNvPicPr/>
          <p:nvPr/>
        </p:nvPicPr>
        <p:blipFill>
          <a:blip r:embed="rId3"/>
          <a:stretch/>
        </p:blipFill>
        <p:spPr>
          <a:xfrm>
            <a:off x="0" y="2454120"/>
            <a:ext cx="9144000" cy="771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ftr" idx="6"/>
          </p:nvPr>
        </p:nvSpPr>
        <p:spPr>
          <a:xfrm>
            <a:off x="-360" y="6624720"/>
            <a:ext cx="289548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ldNum" idx="7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9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C960-C2E2-44D5-97E6-84F7AFB8411F}" type="slidenum">
              <a:rPr b="0" lang="en-US" sz="1200" spc="-1" strike="noStrike">
                <a:solidFill>
                  <a:srgbClr val="9ca9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23922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31608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NAVAIR-Seal.png"/>
          <p:cNvPicPr/>
          <p:nvPr/>
        </p:nvPicPr>
        <p:blipFill>
          <a:blip r:embed="rId7"/>
          <a:stretch/>
        </p:blipFill>
        <p:spPr>
          <a:xfrm>
            <a:off x="0" y="1817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Wave_Bottom_v2"/>
          <p:cNvPicPr/>
          <p:nvPr/>
        </p:nvPicPr>
        <p:blipFill>
          <a:blip r:embed="rId3"/>
          <a:stretch/>
        </p:blipFill>
        <p:spPr>
          <a:xfrm>
            <a:off x="0" y="6591240"/>
            <a:ext cx="9144000" cy="276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Wave_v2"/>
          <p:cNvPicPr/>
          <p:nvPr/>
        </p:nvPicPr>
        <p:blipFill>
          <a:blip r:embed="rId4"/>
          <a:stretch/>
        </p:blipFill>
        <p:spPr>
          <a:xfrm>
            <a:off x="0" y="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Rope_from_illthin.png"/>
          <p:cNvPicPr/>
          <p:nvPr/>
        </p:nvPicPr>
        <p:blipFill>
          <a:blip r:embed="rId5"/>
          <a:stretch/>
        </p:blipFill>
        <p:spPr>
          <a:xfrm>
            <a:off x="0" y="6714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Rope_from_illthin.png"/>
          <p:cNvPicPr/>
          <p:nvPr/>
        </p:nvPicPr>
        <p:blipFill>
          <a:blip r:embed="rId6"/>
          <a:stretch/>
        </p:blipFill>
        <p:spPr>
          <a:xfrm>
            <a:off x="0" y="6515280"/>
            <a:ext cx="9144000" cy="14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NAVAIR_logo_White.png"/>
          <p:cNvPicPr/>
          <p:nvPr/>
        </p:nvPicPr>
        <p:blipFill>
          <a:blip r:embed="rId7"/>
          <a:stretch/>
        </p:blipFill>
        <p:spPr>
          <a:xfrm>
            <a:off x="7848720" y="6654960"/>
            <a:ext cx="1171440" cy="203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NAVAIR-Seal.png"/>
          <p:cNvPicPr/>
          <p:nvPr/>
        </p:nvPicPr>
        <p:blipFill>
          <a:blip r:embed="rId8"/>
          <a:stretch/>
        </p:blipFill>
        <p:spPr>
          <a:xfrm>
            <a:off x="0" y="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9853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8"/>
          </p:nvPr>
        </p:nvSpPr>
        <p:spPr>
          <a:xfrm>
            <a:off x="-360" y="6608880"/>
            <a:ext cx="2895480" cy="2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9"/>
          </p:nvPr>
        </p:nvSpPr>
        <p:spPr>
          <a:xfrm>
            <a:off x="3495240" y="6603840"/>
            <a:ext cx="21337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B0B5-FD36-4A81-940F-568251065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FD2D-86C9-4768-A556-8626B82969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Wave_v2"/>
          <p:cNvPicPr/>
          <p:nvPr/>
        </p:nvPicPr>
        <p:blipFill>
          <a:blip r:embed="rId3"/>
          <a:stretch/>
        </p:blipFill>
        <p:spPr>
          <a:xfrm>
            <a:off x="0" y="3544920"/>
            <a:ext cx="9144000" cy="771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34704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423864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NAVAIR-Sealw.png"/>
          <p:cNvPicPr/>
          <p:nvPr/>
        </p:nvPicPr>
        <p:blipFill>
          <a:blip r:embed="rId7"/>
          <a:stretch/>
        </p:blipFill>
        <p:spPr>
          <a:xfrm>
            <a:off x="3071880" y="214200"/>
            <a:ext cx="2981160" cy="2982960"/>
          </a:xfrm>
          <a:prstGeom prst="rect">
            <a:avLst/>
          </a:prstGeom>
          <a:ln w="0">
            <a:noFill/>
          </a:ln>
        </p:spPr>
      </p:pic>
      <p:sp>
        <p:nvSpPr>
          <p:cNvPr id="263" name="Line 10"/>
          <p:cNvSpPr/>
          <p:nvPr/>
        </p:nvSpPr>
        <p:spPr>
          <a:xfrm>
            <a:off x="5477040" y="4964040"/>
            <a:ext cx="3017520" cy="0"/>
          </a:xfrm>
          <a:prstGeom prst="line">
            <a:avLst/>
          </a:prstGeom>
          <a:ln w="12600">
            <a:solidFill>
              <a:srgbClr val="897f3a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5477040" y="6424560"/>
            <a:ext cx="3017520" cy="0"/>
          </a:xfrm>
          <a:prstGeom prst="line">
            <a:avLst/>
          </a:prstGeom>
          <a:ln w="12600">
            <a:solidFill>
              <a:srgbClr val="897f3a"/>
            </a:solidFill>
            <a:miter/>
            <a:headEnd len="sm" type="diamond" w="sm"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1"/>
          <p:cNvSpPr/>
          <p:nvPr/>
        </p:nvSpPr>
        <p:spPr>
          <a:xfrm>
            <a:off x="5518080" y="4978440"/>
            <a:ext cx="223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1c295b"/>
                </a:solidFill>
                <a:latin typeface="Arial Narrow"/>
              </a:rPr>
              <a:t>Presented to: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0440" y="3540240"/>
            <a:ext cx="822960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224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ldNum" idx="13"/>
          </p:nvPr>
        </p:nvSpPr>
        <p:spPr>
          <a:xfrm>
            <a:off x="3507840" y="6594480"/>
            <a:ext cx="21337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d2e2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8F5D-6530-4CD4-9735-6BC816E833E8}" type="slidenum">
              <a:rPr b="0" lang="en-US" sz="1400" spc="-1" strike="noStrike">
                <a:solidFill>
                  <a:srgbClr val="ccd2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Wave_v2"/>
          <p:cNvPicPr/>
          <p:nvPr/>
        </p:nvPicPr>
        <p:blipFill>
          <a:blip r:embed="rId3"/>
          <a:stretch/>
        </p:blipFill>
        <p:spPr>
          <a:xfrm>
            <a:off x="0" y="2454120"/>
            <a:ext cx="9144000" cy="7718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23922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31608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NAVAIR-Seal.png"/>
          <p:cNvPicPr/>
          <p:nvPr/>
        </p:nvPicPr>
        <p:blipFill>
          <a:blip r:embed="rId7"/>
          <a:stretch/>
        </p:blipFill>
        <p:spPr>
          <a:xfrm>
            <a:off x="0" y="1817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sldNum" idx="14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9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D9A5-A6FD-4EE1-B149-5EA3DC7417A2}" type="slidenum">
              <a:rPr b="0" lang="en-US" sz="1200" spc="-1" strike="noStrike">
                <a:solidFill>
                  <a:srgbClr val="9ca9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Wave_v2"/>
          <p:cNvPicPr/>
          <p:nvPr/>
        </p:nvPicPr>
        <p:blipFill>
          <a:blip r:embed="rId3"/>
          <a:stretch/>
        </p:blipFill>
        <p:spPr>
          <a:xfrm>
            <a:off x="0" y="2454120"/>
            <a:ext cx="9144000" cy="771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Rope_from_illthin.png"/>
          <p:cNvPicPr/>
          <p:nvPr/>
        </p:nvPicPr>
        <p:blipFill>
          <a:blip r:embed="rId4"/>
          <a:stretch/>
        </p:blipFill>
        <p:spPr>
          <a:xfrm>
            <a:off x="0" y="23922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Rope_from_illthin.png"/>
          <p:cNvPicPr/>
          <p:nvPr/>
        </p:nvPicPr>
        <p:blipFill>
          <a:blip r:embed="rId5"/>
          <a:stretch/>
        </p:blipFill>
        <p:spPr>
          <a:xfrm>
            <a:off x="0" y="3160800"/>
            <a:ext cx="9144000" cy="142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NAVAIR_Logo-Blue_depth_130"/>
          <p:cNvPicPr/>
          <p:nvPr/>
        </p:nvPicPr>
        <p:blipFill>
          <a:blip r:embed="rId6"/>
          <a:stretch/>
        </p:blipFill>
        <p:spPr>
          <a:xfrm>
            <a:off x="7905600" y="6657840"/>
            <a:ext cx="1238400" cy="200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NAVAIR-Seal.png"/>
          <p:cNvPicPr/>
          <p:nvPr/>
        </p:nvPicPr>
        <p:blipFill>
          <a:blip r:embed="rId7"/>
          <a:stretch/>
        </p:blipFill>
        <p:spPr>
          <a:xfrm>
            <a:off x="0" y="181764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sldNum" idx="15"/>
          </p:nvPr>
        </p:nvSpPr>
        <p:spPr>
          <a:xfrm>
            <a:off x="3495240" y="6624720"/>
            <a:ext cx="213372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ca9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7F90-8AF5-4875-BD6A-C71A93F78765}" type="slidenum">
              <a:rPr b="0" lang="en-US" sz="1200" spc="-1" strike="noStrike">
                <a:solidFill>
                  <a:srgbClr val="9ca9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0440" y="3540240"/>
            <a:ext cx="822960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224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nufacturing BPA’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517720" y="5151240"/>
            <a:ext cx="29163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2240"/>
                </a:solidFill>
                <a:latin typeface="Arial Narrow"/>
              </a:rPr>
              <a:t>Small Business Round Table</a:t>
            </a:r>
            <a:endParaRPr b="0" lang="en-US" sz="1400" spc="-1" strike="noStrike">
              <a:solidFill>
                <a:srgbClr val="1c2240"/>
              </a:solidFill>
              <a:latin typeface="Arial Narrow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7324200" y="4734000"/>
            <a:ext cx="12510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1c2240"/>
                </a:solidFill>
                <a:latin typeface="Arial Narrow"/>
              </a:rPr>
              <a:t>18 November 2014</a:t>
            </a:r>
            <a:endParaRPr b="0" lang="en-US" sz="1100" spc="-1" strike="noStrike">
              <a:solidFill>
                <a:srgbClr val="1c2240"/>
              </a:solidFill>
              <a:latin typeface="Arial Narrow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517720" y="5354640"/>
            <a:ext cx="294660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c224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1c224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c224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1c2240"/>
              </a:solidFill>
              <a:latin typeface="Arial Narrow"/>
            </a:endParaRPr>
          </a:p>
        </p:txBody>
      </p:sp>
      <p:sp>
        <p:nvSpPr>
          <p:cNvPr id="570" name="Slide Number Placeholder 7"/>
          <p:cNvSpPr/>
          <p:nvPr/>
        </p:nvSpPr>
        <p:spPr>
          <a:xfrm>
            <a:off x="3508200" y="6594480"/>
            <a:ext cx="2133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B7A0-1239-43A4-B122-4E794667B798}" type="slidenum">
              <a:rPr b="1" lang="en-US" sz="1400" spc="-1" strike="noStrike">
                <a:solidFill>
                  <a:srgbClr val="ccd2e2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028"/>
          <p:cNvSpPr/>
          <p:nvPr/>
        </p:nvSpPr>
        <p:spPr>
          <a:xfrm>
            <a:off x="0" y="6432480"/>
            <a:ext cx="914400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91440" bIns="91440" anchor="t">
            <a:spAutoFit/>
          </a:bodyPr>
          <a:p>
            <a:pPr marL="223920" indent="-223920" algn="ctr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1c295b"/>
                </a:solidFill>
                <a:latin typeface="Arial"/>
              </a:rPr>
              <a:t>NAVAIR Public Releases   2014-1013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 algn="ctr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800" spc="-1" strike="noStrike">
                <a:solidFill>
                  <a:srgbClr val="1c295b"/>
                </a:solidFill>
                <a:latin typeface="Arial"/>
              </a:rPr>
              <a:t>Distribution Statement A – “Approved for public release; distribution is unlimited.”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nufacturing BPA’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Blanket Purchase Agreements (BPA’s) establish Terms and Conditions (T&amp;C’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Small Business Set-Asi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Orders Competed via the FedBid websi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Transactions up to $15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High Volume/Fast Turnaro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Transaction paid by Credit Ca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itle 3"/>
          <p:cNvSpPr/>
          <p:nvPr/>
        </p:nvSpPr>
        <p:spPr>
          <a:xfrm>
            <a:off x="457200" y="92160"/>
            <a:ext cx="8229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PA COMMODIT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Content Placeholder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Industrial Supplies</a:t>
            </a:r>
            <a:r>
              <a:rPr b="0" lang="en-US" sz="27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Metals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Electroplating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Machine Services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Electronics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Welding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Content Placeholder 4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Testing Servi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Machine Repai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Engrav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Powder Coa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Manufactur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Welding Suppl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Box 17"/>
          <p:cNvSpPr/>
          <p:nvPr/>
        </p:nvSpPr>
        <p:spPr>
          <a:xfrm>
            <a:off x="533520" y="5931000"/>
            <a:ext cx="74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If Interested – Submit descriptive literature including past performance and your firm’s capabilities to the NAVAIR LKE Small Business Off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itle 1"/>
          <p:cNvSpPr/>
          <p:nvPr/>
        </p:nvSpPr>
        <p:spPr>
          <a:xfrm>
            <a:off x="457200" y="0"/>
            <a:ext cx="82296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EDBI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To Compete you must have a FedBid Account and a BPA in good stand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FedBid.c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Email Notification of all Request for Quotes (RFQ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Reverse Auction (Lead/La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Vendor pays a small fee to FedBid upon successful award (0 – 3%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21:10:26Z</dcterms:created>
  <dc:creator>Noel Hepp</dc:creator>
  <dc:description>File:
Presenter:
Subject:</dc:description>
  <cp:keywords>NAVAIR COMMAND OVERVIEW</cp:keywords>
  <dc:language>en-US</dc:language>
  <cp:lastModifiedBy>cmoyer</cp:lastModifiedBy>
  <cp:lastPrinted>2014-11-17T19:23:31Z</cp:lastPrinted>
  <dcterms:modified xsi:type="dcterms:W3CDTF">2014-12-16T18:54:52Z</dcterms:modified>
  <cp:revision>292</cp:revision>
  <dc:subject>NAVAL AIR SYSTEMS COMMAND OVERVIEW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rief Date">
    <vt:lpwstr>Nov 2010</vt:lpwstr>
  </property>
  <property fmtid="{D5CDD505-2E9C-101B-9397-08002B2CF9AE}" pid="3" name="Purpose">
    <vt:lpwstr>Message Alignment</vt:lpwstr>
  </property>
</Properties>
</file>